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011-2CFA-4B6A-B814-E286278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824-29EE-46F0-A760-900FBE4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DF7-CC6B-4CA6-AC44-517D8B81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524-6B73-49CB-817B-E1FC4E3B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B4D-E5F8-42A7-B5EE-B738BFB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961-CB56-436F-B8C9-2A36C4EA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935-DFCA-4BA6-ACF6-F0DEBEEF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540-0088-4113-9D76-4B28D887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CE7-B2C6-4228-B711-9B34046C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2A0-47F2-4BE4-A955-3B93D86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93A-35D2-4D41-9FF9-037D68C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487-E9F2-4FF7-9011-1821F43E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CE8-4F87-4DDB-B20F-00E94CC77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1905120"/>
            <a:ext cx="3733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P 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1365120"/>
            <a:ext cx="32004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33600" y="228600"/>
            <a:ext cx="607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29080" y="1676520"/>
            <a:ext cx="230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4:50Z</dcterms:created>
  <dc:creator>Patrick J. Mooney</dc:creator>
  <dc:description/>
  <dc:language>en-US</dc:language>
  <cp:lastModifiedBy>Patrick J. Mooney</cp:lastModifiedBy>
  <dcterms:modified xsi:type="dcterms:W3CDTF">2010-11-02T13:40:19Z</dcterms:modified>
  <cp:revision>2</cp:revision>
  <dc:subject/>
  <dc:title>Slide 1</dc:title>
</cp:coreProperties>
</file>